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B40-B298-47EB-81BE-324FF7FF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E5E-6D20-4FEF-B5DE-4AADD110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174-D7D7-4AF5-A7DD-8C9A719B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83F-75F9-40C2-985F-7ACD210C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61C0-D032-4936-99FE-990C5D2D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62CB-55C9-4582-914E-62143125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C7E4-7207-4109-8E51-BDDAFFFC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D470-6E1E-49A3-956A-5EFC629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00BE-A2D5-4281-9E59-2D1695F4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75B1-B3C8-4600-8105-9ECE945E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1E4E-CAF7-4C30-93FC-55065E7C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933-E461-4D58-A7EB-F22610CD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9D5A-CC0D-47E7-AB64-C3D67BA8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8FD4-1944-45C6-B5E8-AFAD79A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C681-A99B-40E6-92C4-A87A453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6602-34D0-4104-B7AC-659548BB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D71F-F8C5-4CCC-AF20-C9C86C6D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D12-C313-4722-BC08-F066D6C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747-135B-41D8-9A0E-3171D9EA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D69-99F1-4C13-91F4-F9DE1712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9D0-283F-45DE-BEE2-54AE2F8A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A51-DD82-4B37-B4DE-D5D7DB85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488-3FEB-4DD9-9510-1D7E47E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650-8A35-4CB3-9926-C533F70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4D11-3FFA-4631-8B79-E6109D7759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35C-EC9A-42BA-8E08-5BD914A896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The%20Little%20Flame%20Dancer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Hollow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Lover%20Letter.doc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Icicles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The%20Little%20Flame%20Dancer%20by%20Monika%20Balfanz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Hatter%20Mad.doc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y Porfolio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Monika Balfan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or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he Little Flame Danc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 prose); For this piece we had to take a poetry piece that we had written and morph it into a prose for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Hollow’s Forest;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an example of a short story.  My piece is a twist on the classical Alice in Wonderland story.  This piece is part one and part tw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Lover Let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; This is an example of a short short story.  We had to come up with a town legend and write a story about i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e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Icicles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Verdana"/>
              </a:rPr>
              <a:t>;  For this piece I just wanted to practice using personific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The Little Flame Dancer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Verdana"/>
              </a:rPr>
              <a:t>;  This is my major poetry piece.  We worked on our poetry to practice editing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Hatter mad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Verdana"/>
              </a:rPr>
              <a:t>;  For this piece we practices compound word inversion for effec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2:36:42Z</dcterms:created>
  <dc:creator>Virginia Beach Public Schools</dc:creator>
  <dc:description/>
  <dc:language>en-US</dc:language>
  <cp:lastModifiedBy>Virginia Beach Public Schools</cp:lastModifiedBy>
  <dcterms:modified xsi:type="dcterms:W3CDTF">2008-05-30T12:52:28Z</dcterms:modified>
  <cp:revision>2</cp:revision>
  <dc:subject/>
  <dc:title>My Porfolio </dc:title>
</cp:coreProperties>
</file>